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8695-E784-4806-9C30-C9FCC5BB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F7F4-CECC-4C39-9C0D-AE555192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4184-C79D-4533-BF4F-117B956B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F0E7-8DF8-42DA-9A3A-66CD030F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1B02-0825-484A-A5B2-EFF8ECA9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82B1-E7FF-49FF-BDAC-41C24DA3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D99B-A887-470C-B55D-4A508326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0716-74D6-46ED-8A80-E3FF3C04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AFC9-942B-4734-A588-A3AC5C02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189C-23DB-4416-A9F0-FA4FF614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4E3D-E2CD-4065-93C8-0EF67C47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3E69-23F4-4BF0-8C58-0E50BCC8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70C1-0627-4EB7-A278-BAD33CB60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1989000"/>
            <a:ext cx="73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2421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EC1F-0B73-4057-A1D4-40392A95AA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’azione dei Fondi negli Stati membri assume la forma di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grammi operativi all’interno del quadro di riferimento strategico naziona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gni programma operativo copre un periodo tra il 1 gennaio 2007 e il 31 dicembre 201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 programma operativo copre solo uno dei tre obiettivi comunitari, salvo deroga concordata tra lo Stato membro e la Commissi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zione e approvazione dei programmi operativ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FB20-06AC-4144-9217-A4D888A84B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a di intervento programmazione 2007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86732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ecade la precedente suddivisione del territorio a livello intraregionale di cui al previgente art. 4 del regolamento (CE) 1260/9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’area di intervento è determinata a livello region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e copre l’intero territorio della Regione interess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ulla base dell’elenco presentato dallo Stato alla Commissione Europea (art.6 reg. (CE) 1083/200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2801-9A91-4297-8C49-4C962F565D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55280" y="620280"/>
            <a:ext cx="7705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ovi Obiet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6000" y="126828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grammazione 2000 -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48000" y="24922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3640" y="1844640"/>
            <a:ext cx="3095640" cy="127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uovere lo sviluppo e l’adeguamento strutturale delle Regioni che presentano ritardi nello svilup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40360" y="1268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mazione 2007 -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63640" y="3357720"/>
            <a:ext cx="309564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vorire la riconversione economica e sociale delle zone con difficoltà struttur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63640" y="4724280"/>
            <a:ext cx="309564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vorire l’ammodernamento delle politiche  e dei sistemi di istruzione, formazione e occu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48000" y="39322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40360" y="4221000"/>
            <a:ext cx="93636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72000" y="1844640"/>
            <a:ext cx="3456000" cy="128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iet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nverg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lerare la convergenza degli Stati membri e regioni, in ritardo di sviluppo, migliorando le condizioni di cres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72000" y="3357720"/>
            <a:ext cx="345600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iet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mpetitività regionale e occu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fforzare la competitività e le attrattive delle regioni e l’occu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40360" y="4508640"/>
            <a:ext cx="3887640" cy="160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iet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operazione territoriale europ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fforzare la cooperazione transfrontaliera e transnazionale mediante iniziative congiunte locali e reg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stituisce tutti i vari programmi INTERE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AE90-EC09-4F76-B737-3E7A9F57FF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12360" y="620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ove Autor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7280" y="141300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grammazione 2000 -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48000" y="263700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3280" y="1989000"/>
            <a:ext cx="3456000" cy="10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utorità di Gest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Ad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posta alla gestione di un programma comuni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40360" y="14130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mazione 2007 -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3280" y="3284640"/>
            <a:ext cx="3456000" cy="130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utorità di Pag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Ad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posta a elaborare e presentare  le richieste di pagamento e di ricevere i pagamenti dalla Commissione Europ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3280" y="4869000"/>
            <a:ext cx="3456000" cy="14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ervizio di Controllo Comuni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volge attività di controllo sul sistema di gestione e sull’attendibilità delle domande finali di pagamento inoltrate alla Commissione Europe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Reg.  CE 438/2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48000" y="3933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48000" y="5373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72000" y="1989000"/>
            <a:ext cx="345600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Autorità di Gest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(Ad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Preposta alla gestione di un programma comuni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72000" y="3284640"/>
            <a:ext cx="3456000" cy="128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Autorità di Certific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(Ad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Preposta a certificare  le dichiarazioni di spesa e le domande di pagamento prima del loro invio alla Commissio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72000" y="4869000"/>
            <a:ext cx="3456000" cy="128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Autorità di Aud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(Ad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Responsabile  della verifica dell’efficace funzionamento del sistema di gestione  e di cont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2255-A424-4D13-BE75-D45CD3704D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 E P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grammi Oper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QSN si attua tramite i Programmi Operativi, documenti che declinano le priorità strategiche per settori e territ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l ciclo di programmazione 2007-2013 i 66 PO sono "monofondo", ciascun PO sarà cofinanziato da un solo Fondo strutturale. Ci sono dunque 42 PO finanziati dal Fondo Europeo di Sviluppo Regionale (FESR) e 24 PO finanziati dal Fondo Sociale Europeo (F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base alle tematiche affrontate e ai soggetti istituzionali competenti, i PO possono ess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azionali (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: in settori con particolari esigenze di integrazione a livello nazionale, la cui Autorità di Gestione è una Amministrazione Centrale (5 FESR, 3 FS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gionali (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: multisettoriali, riferiti alle singole regioni gestiti dalle Amministrazioni Regionali. Per ciascuna Regione c’è un POR FESR e un POR FSE (21 FESR, 21 FS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D1E5-2B0B-49D5-B687-CA7E3E89DD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ON E P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terregionali (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OI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: su tematiche in cui risulta particolarmente efficace un’azione fortemente coordinata fra Regioni che consenta di cogliere economie di scala e di scopo nell’attuazione degli interventi (Energia, Attrattori culturali naturali e turismo); gestiti dalle Regioni, con la partecipazione di centri di competenza nazionale o Amministrazioni centrali (2 FESR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PO – ai fini della realizzazione degli interventi – si riferiscono ai tre Obiettivi della politica di coesione 2007/2013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tto la sig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Competitività Regionale e Occupazione) sono compresi i 33 PO che riguardano tutte le regioni del Centro Nord – incluse le Province Autonome di Bolzano e Trento - e le tre regioni del Mezzogiorno: Abruzzo, Molise e Sardegn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tto la sig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V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Convergenza), sono compresi i 19 PO che riguardano le rimanenti regioni del Mezzogiorno: Basilicata, Calabria, Campania, Puglia e Sicili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tto la sig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T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Cooperazione territoriale europea) sono compresi i 7 PO della cooperazione transfrontaliera, di cui 6 hanno come Autorità di Gestione una Regione italiana, i 4 PO della cooperazione transnazionale, tutti con Autorità di Gestione non Italiana, il PO cofinanziato dal FESR e dallo strumento di preadesione (IPA), i 2 PO cofinanziati dal FESR e dallo strumento di prossimità e di vicinato (ENPI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AED1-E982-4E35-94A3-E710004219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79640" y="33336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16286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t.158 Trat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378936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t.159 Trat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206064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 promuovere uno sviluppo armonioso dell'insieme della Comunità, questa sviluppa e prosegue la propria azione intesa a realizzare il rafforzamento della sua coesione economica e socia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particolare la Comunità mira a ridurre il divario tra i livelli di sviluppo delle varie regioni ed il ritardo delle regioni meno favorite o insulari, comprese le zone rural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4076640"/>
            <a:ext cx="792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i Stati membri conducono la loro politica economica e la coordinano anche al fine di raggiungere gli obiettivi dell'articolo 158. L'elaborazione e l'attuazione delle politiche e azioni comunitarie, nonché l'attuazione del mercato interno tengono conto degli obiettivi dell'articolo 158 e concorrono alla loro realizzazione. La Comunità appoggia questa realizzazione anche con l'azione che essa svolge attraverso fondi a finalità strutturale (Fondo europeo agricolo di orientamento e di garanzia, sezione « orientamento », Fondo sociale europeo, Fondo europeo di sviluppo regionale), la Banca europea per gli investimenti e gli altri strumenti finanziari esisten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55B3-6180-449C-A6F8-0DEB1CF18F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8000" y="2205000"/>
            <a:ext cx="86407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rtt.158 e 159 del Tratta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olamento (CE) 1080/2006 dd. 5 luglio 2006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regolamento F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olamento (CE) n.1081/2006 dd. 5 luglio 2006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regolamento FS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olamento (CE) n.1083/2006 dd.11 luglio 2006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regolamento gener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33336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197000"/>
            <a:ext cx="77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nti norm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71628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ovo approccio comunitario ai fondi struttura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4508640"/>
            <a:ext cx="7921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recepimento delle priorità comunitarie per uno sviluppo sostenibile, definite nel Consiglio europeo di Lisbona del 23 e 24 marzo 2000 e del Consiglio europeo di Goteborg del 15 e 16 giugno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La politica di coesione inquadra l’intervento dei Fondi strutturali non più quale atto aggiuntivo ed addizionale rispetto alle politiche di sviluppo nazionali ma quale elemento integrato, con le stesse,  preposto a garantire un ottimale e coordinato utilizzo di tali Fondi all’interno di un quadro strategico di sviluppo nazionale d’insieme che tenga conto tanto dei finanziamenti nazionali quanto di quelli europei in una visione integrata e priva di sovrapposizioni o di caren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FCB2-C525-495E-8DD0-2649E9BBD4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436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I DI INTERVEN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184464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PLEMENTARIETÀ, COERENZA E CONFORMIT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2924280"/>
            <a:ext cx="6769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 Fondi intervengono a complemento delle azioni nazionali, regionali e locali, integrandovi le priorità della Comunità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Commissione e gli Stati membri vigilano sulla coerenza dell’intervento dei Fondi e di quello degli Stati membri con le azioni, le politiche e le priorità della Comunità. La coerenza, in particolare, si fissa negli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rientamenti strategici della Comunit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nel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uadro di riferimento strategico naziona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i programmi operativ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o il seguente sc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227664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39640" y="4869000"/>
            <a:ext cx="1584360" cy="1152360"/>
            <a:chOff x="539640" y="4869000"/>
            <a:chExt cx="1584360" cy="1152360"/>
          </a:xfrm>
        </p:grpSpPr>
        <p:sp>
          <p:nvSpPr>
            <p:cNvPr id="59" name=""/>
            <p:cNvSpPr/>
            <p:nvPr/>
          </p:nvSpPr>
          <p:spPr>
            <a:xfrm>
              <a:off x="539640" y="5084640"/>
              <a:ext cx="158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rientamenti strategici comunita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1280" y="4869000"/>
              <a:ext cx="1441440" cy="1152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195640" y="5445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5157720"/>
            <a:ext cx="19447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dro strategico nazion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35640" y="544500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804000" y="4508640"/>
            <a:ext cx="1944720" cy="1873080"/>
            <a:chOff x="6804000" y="4508640"/>
            <a:chExt cx="1944720" cy="1873080"/>
          </a:xfrm>
        </p:grpSpPr>
        <p:sp>
          <p:nvSpPr>
            <p:cNvPr id="65" name=""/>
            <p:cNvSpPr/>
            <p:nvPr/>
          </p:nvSpPr>
          <p:spPr>
            <a:xfrm>
              <a:off x="6877080" y="5157720"/>
              <a:ext cx="1728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ocumento di programmazi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04000" y="4508640"/>
              <a:ext cx="1944720" cy="187308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73B9-8CB9-4326-AFEB-11AE172ED4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 di intervento dei vari documenti all’interno della programmazione 2007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3429000"/>
            <a:ext cx="2590560" cy="93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quadramento degli obiettivi comunitari all’interno di quadro di riferimento strategico nazion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QS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71640" y="4581360"/>
            <a:ext cx="274176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lizzazione di un Documento Unitario regionale per la realizzazione della politica di Coes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5589720"/>
            <a:ext cx="36576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gramma Ope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tilizzo coordinato ed integrato dei Finanziam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omunitari, nazionali, regiona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132000" y="1844640"/>
            <a:ext cx="1944720" cy="1439640"/>
            <a:chOff x="3132000" y="1844640"/>
            <a:chExt cx="1944720" cy="1439640"/>
          </a:xfrm>
        </p:grpSpPr>
        <p:sp>
          <p:nvSpPr>
            <p:cNvPr id="73" name=""/>
            <p:cNvSpPr/>
            <p:nvPr/>
          </p:nvSpPr>
          <p:spPr>
            <a:xfrm>
              <a:off x="3205080" y="2205000"/>
              <a:ext cx="182880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rientamenti strategici e definizione obiettivi Comunita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32000" y="1844640"/>
              <a:ext cx="1944720" cy="1439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1E85-86CE-407A-8F1A-206EB41697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557360"/>
            <a:ext cx="79912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orit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dere più attraenti gli Stati membri, le regioni e le città migliorando l’accessibilità, garantendo una qualità e un livello adeguati di servizi e tutelando l’ambien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muovere l’innovazione, l’imprenditorialità e lo sviluppo dell’economia della conoscenza mediante lo sviluppo della ricerca e dell’innovazione, comprese le nuove tecnologie dell’informazione e della comunicazion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eare nuovi e migliori posti di lavoro attirando un maggior numero di persone verso il mercato del lavoro o l’attività imprenditoriale, migliorando l’adattabilità dei lavoratori e delle imprese e aumentando gli investimenti nel capitale uma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La strategia di Lisbon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rinnovata per la crescita e l’occupazione e i programmi nazionali di riforma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ottolineano il ruolo dell’ambiente per la crescita, la competitività e l’occupa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ccorre tener conto della protezione dell’ambiente nella preparazione dei programmi e dei progetti volti a promuovere lo sviluppo sostenib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112536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entamenti strategici comunit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6237360"/>
            <a:ext cx="777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municazione al Consiglio europeo di primavera - “Lavorare insieme per la crescita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occupazione - Il rilancio della strategia di Lisbona”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 (2005) 24, 2.2.2005.11807/06 DT/g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8BA3-2AB4-41A5-93C0-CB0DF1BA81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79640" y="33336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981000"/>
            <a:ext cx="77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or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1628640"/>
            <a:ext cx="770436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quadro delle priorità di finanziamento dei Fondi Comunitari viene definito secondo un rapporto gerarchico  d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egolamento comunitario 1083/200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Quadro Strategico Nazionale (QS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art.27 Reg. (CE) 1083 /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429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orità comunita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3789360"/>
            <a:ext cx="230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dere le Regioni e l’Europa  più attraenti per gli investim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32360" y="3860640"/>
            <a:ext cx="208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uovere l’innovazione e la conoscenza a favore della cres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16360" y="386064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ovi e migliori posti di lavo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3860640"/>
            <a:ext cx="18003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mensione territor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rale/urb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581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orità naz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5011560"/>
            <a:ext cx="20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lioramento e valorizzazione delle risorse um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40000" y="4869000"/>
            <a:ext cx="230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ozione e valorizzazione della ricerca  della innovazione per la competitiv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16360" y="4940280"/>
            <a:ext cx="16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o sostenibile ed efficiente delle risorse ambient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45080" y="5011560"/>
            <a:ext cx="20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orizzazione delle risorse natur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587700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attività territor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6093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i e collegam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11640" y="580536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azione investimenti internaz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2000" y="580536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36000" y="573408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titività sistemi produtti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08720" y="6237360"/>
            <a:ext cx="259236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titività cit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viluppo urbano sosteni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DA1A-1625-4014-8F8B-E3CC617313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5528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 Unitario di Programmazione della Politica regionale di Coe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844640"/>
            <a:ext cx="70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 disposizioni del Quadro Strategico Nazionale (QSN) prevedono che ogni Regione adotti un documento nel quale declinare  la strategia specifica di politica regionale  di coesione all’interno della propria programmazione gener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00" y="2852640"/>
            <a:ext cx="2519280" cy="58068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o Unitario di program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5013360"/>
            <a:ext cx="223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i generali comunitari con riferimento alle priorità definite dal QS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551664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i politica reg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6021360"/>
            <a:ext cx="194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zione strumenti di Attu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6021360"/>
            <a:ext cx="20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i specifici comunitari reg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72360" y="515772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artenar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4076640"/>
            <a:ext cx="237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dro di programmazione finanziaria unitaria delle riso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422100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orità regional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4000" y="508464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di naz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72360" y="595008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di Comunitari politica agric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00720" y="4076640"/>
            <a:ext cx="23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di strutturali della politica di coes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2360" y="3500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41A5-EFB0-4B25-AEA8-5DA420F5BC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0436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mini presentazione documenti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95280" y="2133720"/>
            <a:ext cx="1584360" cy="1152360"/>
            <a:chOff x="395280" y="2133720"/>
            <a:chExt cx="1584360" cy="1152360"/>
          </a:xfrm>
        </p:grpSpPr>
        <p:sp>
          <p:nvSpPr>
            <p:cNvPr id="117" name=""/>
            <p:cNvSpPr/>
            <p:nvPr/>
          </p:nvSpPr>
          <p:spPr>
            <a:xfrm>
              <a:off x="395280" y="2349360"/>
              <a:ext cx="158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rientamenti strategici comunita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6920" y="2133720"/>
              <a:ext cx="1441440" cy="1152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195640" y="2637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716280"/>
            <a:ext cx="194436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dro strategico nazion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71640" y="400536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95280" y="4581360"/>
            <a:ext cx="1944720" cy="1873080"/>
            <a:chOff x="395280" y="4581360"/>
            <a:chExt cx="1944720" cy="1873080"/>
          </a:xfrm>
        </p:grpSpPr>
        <p:sp>
          <p:nvSpPr>
            <p:cNvPr id="123" name=""/>
            <p:cNvSpPr/>
            <p:nvPr/>
          </p:nvSpPr>
          <p:spPr>
            <a:xfrm>
              <a:off x="468360" y="5230440"/>
              <a:ext cx="1728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ocumento di programmazi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5280" y="4581360"/>
              <a:ext cx="1944720" cy="187308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564000" y="1989000"/>
            <a:ext cx="3456000" cy="12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o il 1 febbrai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emine massim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La commissione ha approvato gli orientamenti 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ottobre 2006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3716280"/>
            <a:ext cx="3456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o 5 mesi dall’adozione degli orientamenti strategici comunit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marz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5516640"/>
            <a:ext cx="158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5157720"/>
            <a:ext cx="34560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 più breve tempo possibile e comunque non oltre 5 mesi dall’adozione degli orientamenti strategici comunitari ovvero entro il 6 marz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D5D6-56F8-442A-B17E-50E97531ED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2:48:50Z</dcterms:created>
  <dc:creator>utente</dc:creator>
  <dc:description/>
  <dc:language>en-US</dc:language>
  <cp:lastModifiedBy>giampiero bianchini</cp:lastModifiedBy>
  <dcterms:modified xsi:type="dcterms:W3CDTF">2008-06-02T21:44:03Z</dcterms:modified>
  <cp:revision>63</cp:revision>
  <dc:subject/>
  <dc:title>Diapositiva 1</dc:title>
</cp:coreProperties>
</file>